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F01C-91DF-434F-9147-4B23EF8493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B6AE-80B0-4586-B0EB-B4869CB621D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BF23-454D-43B0-83B7-3539C9DEDFD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7AFA-F865-4D9F-ACE0-F8F33A026B1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D0FB-92CC-4DF7-9677-F767BAF63DD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8F93-E72F-40D0-9152-F9D4924A744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1BF1-14A0-4295-BE05-A009F0B5DB3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B741-712B-4440-9967-93584C87109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734B-5051-4BD6-8748-AD66085D1CA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6140-B505-46AE-BE53-C33A962AF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762C-F2AE-4288-9CCC-C59020CB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E61E-A83C-45E4-9B10-52E49BB5D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BAEB-A11D-4A55-8580-AE198701E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E769-F62D-4307-BB37-66849326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19ED-392E-4C98-8520-3FEFAD41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B26A-A8E9-4E8B-9A35-5178221C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F316-0109-4116-AE5A-C6229F34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D918-7339-44F5-9DF8-A10460D8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0172-6BD3-4037-AE7A-D726189B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5846-569E-4AD2-830F-DE95A279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4581-B8C1-4EFC-BD6D-9A7DFBEB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01D9-C6BA-4B42-BECB-137ED6122AB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msa.org/Publications/WebExclusive/Assessment/tabid/1120/Default.aspx" TargetMode="External"/><Relationship Id="rId2" Type="http://schemas.openxmlformats.org/officeDocument/2006/relationships/hyperlink" Target="http://office.microsoft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00"/>
                </a:solidFill>
                <a:latin typeface="Arial Black"/>
                <a:ea typeface="Arial"/>
              </a:rPr>
              <a:t>Pre-assessment</a:t>
            </a:r>
            <a:endParaRPr b="0" lang="en-US" sz="6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By: Heather Wagn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Wilkes Univers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EDIM 51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Arial Black"/>
                <a:ea typeface="Arial"/>
              </a:rPr>
              <a:t>What is pre-assessment?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880" y="18284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Tools used to measure what students have mastered prior to instruct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2" descr="academics,answers,classrooms,desks,iStockphoto,raised hands,rows,students,teachers,education,knowledge"/>
          <p:cNvPicPr/>
          <p:nvPr/>
        </p:nvPicPr>
        <p:blipFill>
          <a:blip r:embed="rId1"/>
          <a:stretch/>
        </p:blipFill>
        <p:spPr>
          <a:xfrm>
            <a:off x="3048120" y="3200400"/>
            <a:ext cx="28670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 Black"/>
                <a:ea typeface="Arial"/>
              </a:rPr>
              <a:t>Why pre-assess?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To find out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What students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know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about the topic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What students are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rested i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How students best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roces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inform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Arial Black"/>
                <a:ea typeface="Arial"/>
              </a:rPr>
              <a:t>Formative Assessments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Part of instruction proces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Used to adjust teaching and learn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Help to determine next ste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Occurs during instruct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Arial Black"/>
                <a:ea typeface="Arial"/>
              </a:rPr>
              <a:t>Summative Assessments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Used to gauge student learning at     a particular tim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Occurs after instruct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academics,back to school,erasers,examinations,iStockphoto,multiple choice,pencils,schools,selections,tests"/>
          <p:cNvPicPr/>
          <p:nvPr/>
        </p:nvPicPr>
        <p:blipFill>
          <a:blip r:embed="rId1"/>
          <a:stretch/>
        </p:blipFill>
        <p:spPr>
          <a:xfrm>
            <a:off x="6048360" y="289548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 Black"/>
                <a:ea typeface="Arial"/>
              </a:rPr>
              <a:t>Formal Assessments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7521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Interest survey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Entry and Exit Ticket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Results from test or quiz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Student conferenc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713560" y="4038480"/>
            <a:ext cx="3430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Arial Black"/>
                <a:ea typeface="Arial"/>
              </a:rPr>
              <a:t>Informal Assessments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Observation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Asking question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Four Corner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Line ‘em U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Noting pattern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Picture 2" descr="academics,books,guidance,instructors,iStockphoto,schools,students,young adults,colleges,classrooms"/>
          <p:cNvPicPr/>
          <p:nvPr/>
        </p:nvPicPr>
        <p:blipFill>
          <a:blip r:embed="rId1"/>
          <a:stretch/>
        </p:blipFill>
        <p:spPr>
          <a:xfrm>
            <a:off x="6048360" y="320040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 Black"/>
                <a:ea typeface="Arial"/>
              </a:rPr>
              <a:t>Resources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Getting to Know your Students Through Pre-assessments”, From: Hempfield School Distri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Garrison, C., &amp; Ehringhaus, M. (2007). Formative and summative assessments in the classroom. Retrieved from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alibri"/>
                <a:hlinkClick r:id="rId1"/>
              </a:rPr>
              <a:t>http://www.nmsa.org/Publications/WebExclusive/Assessment/tabid/1120/Default.aspx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Images from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alibri"/>
                <a:hlinkClick r:id="rId2"/>
              </a:rPr>
              <a:t>http://office.microsoft.co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21:29:17Z</dcterms:created>
  <dc:creator>Andy</dc:creator>
  <dc:description/>
  <dc:language>en-US</dc:language>
  <cp:lastModifiedBy>Andy</cp:lastModifiedBy>
  <dcterms:modified xsi:type="dcterms:W3CDTF">2010-09-28T22:42:18Z</dcterms:modified>
  <cp:revision>9</cp:revision>
  <dc:subject/>
  <dc:title>Pre-assessment</dc:title>
</cp:coreProperties>
</file>